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6CD-0BEC-4CF6-B35C-36ECE1A5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417-E30A-4854-A5E2-10B35F7C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E35-AE07-48FE-B69A-FABE1DDD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FBE-9793-4FCB-9C11-48C22AC3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982-8FC5-4434-8BB5-F25EC379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F7D-95FD-4DBE-AFE8-D292F652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C38-5B0B-4F10-AFBB-DC6AB3E9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394-06E6-4C5A-B770-1076C485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539-CBC5-48C3-93E8-5FC7E693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98C-73C1-4E87-B9B9-9C07AA06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229-BD58-449A-A714-6ED5E8E0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B28-19F4-4607-9920-65D9DE8F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4CA8-D5DC-4550-895F-D880EC553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Real E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5-26T21:51:18Z</dcterms:modified>
  <cp:revision>9</cp:revision>
  <dc:subject/>
  <dc:title>Diapositiva 1</dc:title>
</cp:coreProperties>
</file>