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A21-DFF7-4713-A8F9-5256897D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BB4-6C6C-4E40-8B04-6DE870F9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CC4-A3F4-480E-918E-9FB16D18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305-54D6-433B-9B0D-20EF1307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954-B36C-4822-9BC8-B348AF81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FF6-A29D-4396-95BF-F533C7FD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ED1-179F-4657-82F7-CB148D44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1C7-3C2C-4284-A390-381C1997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390-DBD4-4F9C-A288-37914844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2B3-2775-4FAF-BCF8-5DFE341A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017-25D5-49FA-BB99-2845CA77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2EA-5630-41D5-B4F7-C1D91679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40BF-222D-40C4-BAE5-0A4968A03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4941360"/>
            <a:ext cx="504036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5373720"/>
            <a:ext cx="5040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21T13:40:10Z</dcterms:modified>
  <cp:revision>721</cp:revision>
  <dc:subject/>
  <dc:title>Diapositiva 1</dc:title>
</cp:coreProperties>
</file>