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21C-97F6-4C7A-AE21-E6F4540F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88A-58C3-4030-B2B5-83305012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FAB-9CAC-4F87-A165-EC82020F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E18-FE67-46C2-B8AD-47A37FF5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F65-2C85-4156-8E0B-BA8F75A4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4F8-4629-4A93-8DE4-740C52A7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FED-D2FE-4EE2-818A-8A3CFEDC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428-A570-4D0A-A337-6CD36DBF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9AF-E1FB-473E-890E-E1C27CC1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BC4-5EC0-4A2F-A9F0-14B84AFB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E9D-7A6A-4377-8A83-9A0D70D4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2C7-2EC7-4134-8260-7DE76A79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FC02-8762-413C-BD36-F924E8BDA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24000" y="386028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44370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10T15:42:00Z</dcterms:modified>
  <cp:revision>704</cp:revision>
  <dc:subject/>
  <dc:title>Diapositiva 1</dc:title>
</cp:coreProperties>
</file>