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402-7B27-40F2-B949-FF283B05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44E-5FF8-4F62-97BA-FD2F2F74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D75-D053-4013-A26B-87CF3624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105-605F-4CC7-85AA-BE176A4F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908-0B64-4A4F-81E3-0ECE898B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78E-AE5B-4E77-AE08-E779BD5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E35-E5D9-4636-8522-F1301F7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000-1987-43C1-A79C-3B5A55DC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013-B94B-4D33-817D-95F10CAF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BC9-26A6-47FE-A31D-8EC83AE8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C35-EFCF-4EF2-B887-B67135E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7AA-46FB-4407-AC0B-8D7942A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046E-A93F-4882-BD6A-96990DB9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64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551664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1a"/>
                </a:solidFill>
                <a:latin typeface="Arial"/>
              </a:rPr>
              <a:t>Your compan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6T01:03:00Z</dcterms:modified>
  <cp:revision>707</cp:revision>
  <dc:subject/>
  <dc:title>Diapositiva 1</dc:title>
</cp:coreProperties>
</file>