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1FA-73F1-44AE-B7F6-799F64A6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3BF-AEEE-41D8-8ED6-44CC379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121-8544-42CE-A20F-82CE6A38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812-702F-4638-9D99-A29F5033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74D-B258-4093-BEE8-698F9E4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1C0-6F2F-4031-9372-3C6DB69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131-0611-475C-9919-EF5D480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531-499A-4A94-8AD6-6D08DFB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D5E-B827-492C-B8BA-287967EC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84A-4447-4737-ACEE-83530AC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54F-3635-4F14-A68E-99188F0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22A-C5C8-4470-A9A6-FAC0B25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ACF-7983-42E9-87B1-25C35CF8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6843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4:38:53Z</dcterms:modified>
  <cp:revision>707</cp:revision>
  <dc:subject/>
  <dc:title>Diapositiva 1</dc:title>
</cp:coreProperties>
</file>