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FD7-81E2-446E-87B4-1BA89ADA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6FF-7D48-4B22-91FE-E77D75F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4F0-ABDD-4B1B-9315-D9D1A921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E7F-A072-4EB6-89E8-7BB55FAF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E68-E72F-4B39-9D48-B8FFBFF3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823-B47F-4D6E-8D8D-44828555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829-BFE5-433C-BAA0-68D0CE62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ED1-63D6-4E1C-A0D1-0E9366DF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5D3-03F4-4BD1-94D0-08CF20F4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B80-2998-40D7-8911-B39FF774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394-E9F6-4E35-98F8-1E0F5D44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878-C94C-4EF5-BBC4-6015B7B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EC67-3B27-4794-8910-6429033FA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3171960"/>
            <a:ext cx="493236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600" spc="-1" strike="noStrike">
                <a:solidFill>
                  <a:srgbClr val="3a0000"/>
                </a:solidFill>
                <a:latin typeface="Arial"/>
              </a:rPr>
              <a:t>Presentation 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3573360"/>
            <a:ext cx="374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000"/>
                </a:solidFill>
                <a:latin typeface="Arial"/>
              </a:rPr>
              <a:t>Subheading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27T21:12:11Z</dcterms:modified>
  <cp:revision>683</cp:revision>
  <dc:subject/>
  <dc:title>Diapositiva 1</dc:title>
</cp:coreProperties>
</file>