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2A1-2B87-4FB8-A6C0-0C314A01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806-1E37-4F6D-877D-9295C92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FC8-0FA3-4AE8-8F9F-1F6D5518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889-5403-41E8-A0ED-F6D230E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5CE-8341-4245-BBC3-165518B7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DD7-37E5-4E5D-A3E2-AE1E4CF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E85-8DC2-4922-896B-8E09161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4EE-2244-4433-9F8F-4449246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16B-7695-4ADB-93C9-7B31D003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9C6-4578-408E-96D2-3E67E41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07A-8554-45D1-8548-67BE1C8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C97-0B8F-4BCF-A6BA-29691C4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429-0626-4B49-B3E3-D5CB8117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4366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013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07T22:27:52Z</dcterms:modified>
  <cp:revision>646</cp:revision>
  <dc:subject/>
  <dc:title>Diapositiva 1</dc:title>
</cp:coreProperties>
</file>