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797-F161-450C-B7A4-FD4948D9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9DF-6527-402C-A31E-7822FE09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3BC-A2C5-4095-A192-190A1687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787-8BF7-4C26-A536-CA8EAB63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F38-758D-4C36-B7D2-05CD6511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AC2-8618-48ED-82F1-1ACF955D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1AF-29C0-4932-A02D-2E7BDCD0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655-C3D0-40DC-8F0C-D64C6EAF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067-0F78-4489-B293-9BC45EA2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704-556A-415A-9145-25001B6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C9E-7F0B-43B7-95F1-FAB87A65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D24-012A-409F-891D-4C6D4969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64A8-482B-4BB8-ADAB-D1CB25844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781360"/>
            <a:ext cx="504036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99cc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1T18:33:51Z</dcterms:modified>
  <cp:revision>586</cp:revision>
  <dc:subject/>
  <dc:title>Diapositiva 1</dc:title>
</cp:coreProperties>
</file>