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D5A58-9670-4772-ABF5-37A3F497C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5F6B7-1558-4426-9735-D6AF3CA4C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BA4E0-816B-4D81-85B0-718008EBD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95D53-7415-49FC-AB5E-981884018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0EE92-9A69-468A-90E5-FAD9AAD90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56200-4A57-4AA0-89CA-F9D115E28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676B5-DB72-4FD3-96A2-5A978C588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8C5E7-78C7-455F-AC65-DE468759D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84CD4-BCA4-4E9E-9A5E-EF43C0672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09477-6C19-4733-8264-7A3A1FE12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C46E8-25D6-4A8B-B9DC-BAD3B5625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125F6-E8F5-4342-AA55-CD2786A61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69DBB-1B43-4780-9A93-C0A9D033F2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7640" y="4365720"/>
            <a:ext cx="4537080" cy="54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3600" spc="-1" strike="noStrike">
                <a:solidFill>
                  <a:srgbClr val="ffffff"/>
                </a:solidFill>
                <a:latin typeface="Arial"/>
              </a:rPr>
              <a:t>Presentation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8000" y="5084640"/>
            <a:ext cx="399240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our company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2-02-29T17:59:33Z</dcterms:modified>
  <cp:revision>577</cp:revision>
  <dc:subject/>
  <dc:title>Diapositiva 1</dc:title>
</cp:coreProperties>
</file>