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257-7129-4836-8E0A-4583BB7C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C27-C711-4331-A6BA-9B0F6D76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0A3-263C-4D97-8FEB-C3B5B365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C14-FE21-4AF7-81EE-05241867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96E-1446-419D-8122-1CDD71A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D70-52AE-467B-BC6C-481EF0E6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CD5-C032-4E17-8AF5-0D44218D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ADE-3CC2-4E00-B192-57ADD0F4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7B8-041A-4B4B-BA30-92529CC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7EA-68F8-43FB-A713-5A11FE1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593-77D7-4C20-9C38-59A70586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D7F-821D-419A-BB8F-82E19535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359-776D-49BB-A542-F34BF8B8B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1557000"/>
            <a:ext cx="59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6666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11T17:48:11Z</dcterms:modified>
  <cp:revision>820</cp:revision>
  <dc:subject/>
  <dc:title>Diapositiva 1</dc:title>
</cp:coreProperties>
</file>