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C32-46AD-4BA1-9406-17730145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F66-1166-4393-847B-401911A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F02-FBFE-4CE8-87EE-355FD384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502-9C77-4FBD-936E-C64E9DEE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5F0-C1C0-488A-9698-92A7F79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0AC-E141-4650-BB40-8AC3D63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7C7-5EFC-4AE3-A865-8500A98D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CC4-5487-42D7-A979-7F85FED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DD9-C254-4F78-8DEC-AC1D03E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5A2-CA6D-4432-8527-1444E58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CCE-2493-4AD9-9B38-4C2CE03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9FB-CFBA-4926-A111-44CDF54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E19-627F-4F60-934C-575C00D4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16360" y="5516280"/>
            <a:ext cx="410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9T15:49:03Z</dcterms:modified>
  <cp:revision>736</cp:revision>
  <dc:subject/>
  <dc:title>Diapositiva 1</dc:title>
</cp:coreProperties>
</file>