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2E45-4BCB-4D7A-8C1A-216830DD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1ADC-91A8-4EEE-9763-49809D0A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994E-BF1E-4AB3-AA77-6A6F54FA2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3C8C-3325-4E5C-B9E9-8E390E227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363A-9A88-4619-927E-0AF4D2D6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BF0A-87B7-4200-954F-9846BCD7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B1DE-6F55-47F1-81E3-3A403FFA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BBA9-C3D8-439A-8958-CE41A463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380D-F08D-4170-9B6D-7E67C6DC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E80B-8B9B-4FDA-8FDD-72421686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E3CE-918D-4996-A576-A3927DAF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31AE-C767-4F02-BF8B-8796A568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2228-A3C1-4F10-BB86-5559B2F74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5229000"/>
            <a:ext cx="5327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6-14T14:57:40Z</dcterms:modified>
  <cp:revision>599</cp:revision>
  <dc:subject/>
  <dc:title>Diapositiva 1</dc:title>
</cp:coreProperties>
</file>