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C5C-D051-4A8F-9735-643FD83F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A0E-DF89-414F-B5AF-495B5034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3D0-B3B5-4E0D-B88D-DBFA7A28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1B4-85CF-4DE3-9863-E5B78FE1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80C-F3C3-4C4C-A3B6-EBB5061E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4B1-1833-44CA-A0B7-585589E9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9FF-E5A1-42C8-B36D-8FCB4979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C25-01F3-4AA6-8631-AC69DB47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44D-A979-469D-A053-1064682B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934-2160-4727-B5C8-B08DC76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45E-EF72-4980-BDC3-3E1BBF81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DF1-6C69-4818-BA50-15031634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8EAC-7D7D-4F6E-8D27-6DD298334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4868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14T19:20:30Z</dcterms:modified>
  <cp:revision>391</cp:revision>
  <dc:subject/>
  <dc:title>Diapositiva 1</dc:title>
</cp:coreProperties>
</file>