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9F9-82FA-4657-981E-C296794F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477-B00B-43E2-9622-BCE6D8E9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290-4223-46DD-A2F6-83928C35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290-C8FB-4986-8DC5-EB04A53F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CD0-11B9-45E2-9FEE-C0339203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B80-D45F-4EC9-B582-F07D095E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561-E772-4002-A5B6-B954DF82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70E-96A4-4AA1-9710-EBED85E8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D71-EE3C-4831-AE2E-E4D5E740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2A5-C517-4F6F-96B1-DCCC1212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682-97F9-413A-BB3C-DDC2C149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417-7832-4ED1-A16F-483AB5C6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1883-048E-487D-94D1-9DFFE56079B8}" type="slidenum">
              <a:rPr b="0" lang="es-U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5:18:13Z</dcterms:created>
  <dc:creator>Arlo</dc:creator>
  <dc:description/>
  <dc:language>en-US</dc:language>
  <cp:lastModifiedBy>Arlo</cp:lastModifiedBy>
  <dcterms:modified xsi:type="dcterms:W3CDTF">2009-01-06T15:20:17Z</dcterms:modified>
  <cp:revision>1</cp:revision>
  <dc:subject/>
  <dc:title>Title</dc:title>
</cp:coreProperties>
</file>